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BD545-2B13-4DD3-8588-71A9CC2A0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28920" y="763560"/>
            <a:ext cx="2914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428920" y="763560"/>
            <a:ext cx="2914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28920" y="763560"/>
            <a:ext cx="2914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428920" y="763560"/>
            <a:ext cx="2914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28920" y="763560"/>
            <a:ext cx="2914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28920" y="763560"/>
            <a:ext cx="2914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28920" y="763560"/>
            <a:ext cx="2914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28920" y="763560"/>
            <a:ext cx="2914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428920" y="763560"/>
            <a:ext cx="2914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428920" y="763560"/>
            <a:ext cx="2914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28920" y="763560"/>
            <a:ext cx="2914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28920" y="763560"/>
            <a:ext cx="2914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85A-56FF-43A9-8685-CA37C2FF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4F3-D8D3-461A-BC3D-BF2D5AF8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A8A-C30F-4A89-BB5A-FC862B63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430-EFFB-495A-9976-149C13FB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1E9-C549-431B-9523-8ACA4DB7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3B3-3436-4485-89D6-B587944A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486-5A2D-425D-A3D2-F77CE706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A59-34E6-4FE0-A6E3-87D7BD06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5AF-A8D9-4FE4-BA93-923102E2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EF7-54D4-446B-9490-385004F4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3FC-715B-4D5A-86BE-D067D3FF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87D-975E-4664-9419-ADA5DFEA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0737A-B5B0-4B17-9253-20E533B0D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932120" y="503280"/>
            <a:ext cx="7727760" cy="923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c757"/>
                  </a:solidFill>
                  <a:miter/>
                </a:ln>
                <a:solidFill>
                  <a:srgbClr val="e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rientNarrow"/>
              </a:rPr>
              <a:t>Stones Engraved with Confucius' Life Stories</a:t>
            </a:r>
            <a:endParaRPr b="0" lang="en-US" sz="1800" spc="1" strike="noStrike">
              <a:ln w="19080">
                <a:solidFill>
                  <a:srgbClr val="ffc757"/>
                </a:solidFill>
                <a:miter/>
              </a:ln>
              <a:solidFill>
                <a:srgbClr val="e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rientNarrow"/>
              <a:ea typeface="OrientNarrow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687760" y="1763640"/>
            <a:ext cx="6300720" cy="5335560"/>
          </a:xfrm>
          <a:prstGeom prst="rect">
            <a:avLst/>
          </a:prstGeom>
          <a:ln w="9360">
            <a:solidFill>
              <a:srgbClr val="ffc757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940120" y="419040"/>
            <a:ext cx="5711760" cy="75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c757"/>
                  </a:solidFill>
                  <a:miter/>
                </a:ln>
                <a:solidFill>
                  <a:srgbClr val="e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rientNarrow"/>
              </a:rPr>
              <a:t>Confucius' Tomb</a:t>
            </a:r>
            <a:endParaRPr b="0" lang="en-US" sz="1800" spc="1" strike="noStrike">
              <a:ln w="19080">
                <a:solidFill>
                  <a:srgbClr val="ffc757"/>
                </a:solidFill>
                <a:miter/>
              </a:ln>
              <a:solidFill>
                <a:srgbClr val="e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rientNarrow"/>
              <a:ea typeface="OrientNarrow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100240" y="1511280"/>
            <a:ext cx="7559640" cy="5670720"/>
          </a:xfrm>
          <a:prstGeom prst="rect">
            <a:avLst/>
          </a:prstGeom>
          <a:ln w="12600">
            <a:solidFill>
              <a:srgbClr val="ffc757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116240" y="503280"/>
            <a:ext cx="3276720" cy="75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c757"/>
                  </a:solidFill>
                  <a:miter/>
                </a:ln>
                <a:solidFill>
                  <a:srgbClr val="e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rientNarrow"/>
              </a:rPr>
              <a:t>Mencius</a:t>
            </a:r>
            <a:endParaRPr b="0" lang="en-US" sz="1800" spc="1" strike="noStrike">
              <a:ln w="19080">
                <a:solidFill>
                  <a:srgbClr val="ffc757"/>
                </a:solidFill>
                <a:miter/>
              </a:ln>
              <a:solidFill>
                <a:srgbClr val="e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rientNarrow"/>
              <a:ea typeface="OrientNarrow"/>
            </a:endParaRPr>
          </a:p>
        </p:txBody>
      </p:sp>
      <p:sp>
        <p:nvSpPr>
          <p:cNvPr id="85" name=""/>
          <p:cNvSpPr/>
          <p:nvPr/>
        </p:nvSpPr>
        <p:spPr>
          <a:xfrm>
            <a:off x="1847880" y="1679400"/>
            <a:ext cx="7980480" cy="487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372 - 289 B.C.E.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Disciple of Confucius. 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Starts off with the assumption that “people 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  are basically good.”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If someone does something bad, education, 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  not punishment, is the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Monotype Sorts" charset="2"/>
              <a:buChar char="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Comic Sans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Comic Sans MS"/>
                <a:ea typeface="Arial Unicode MS"/>
              </a:rPr>
              <a:t>Good people will mend their ways in 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Comic Sans MS"/>
                <a:ea typeface="Arial Unicode MS"/>
              </a:rPr>
              <a:t>   accordance to their inherent good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19280" y="671400"/>
            <a:ext cx="6551640" cy="83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c757"/>
                  </a:solidFill>
                  <a:miter/>
                </a:ln>
                <a:solidFill>
                  <a:srgbClr val="e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rientNarrow"/>
              </a:rPr>
              <a:t>Social Cohesion is Paramount!</a:t>
            </a:r>
            <a:endParaRPr b="0" lang="en-US" sz="1800" spc="1" strike="noStrike">
              <a:ln w="19080">
                <a:solidFill>
                  <a:srgbClr val="ffc757"/>
                </a:solidFill>
                <a:miter/>
              </a:ln>
              <a:solidFill>
                <a:srgbClr val="e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rientNarrow"/>
              <a:ea typeface="OrientNarrow"/>
            </a:endParaRPr>
          </a:p>
        </p:txBody>
      </p:sp>
      <p:sp>
        <p:nvSpPr>
          <p:cNvPr id="87" name=""/>
          <p:cNvSpPr/>
          <p:nvPr/>
        </p:nvSpPr>
        <p:spPr>
          <a:xfrm>
            <a:off x="2184480" y="1994040"/>
            <a:ext cx="7477200" cy="437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The emperor is the example of 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 proper behavior --&gt; “big daddy”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Social relationships are based on 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 “rites” or “rituals.”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Even religious rituals are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 important for SOCIAL, not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 religious reasons, acc. to Confuc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00240" y="2184480"/>
            <a:ext cx="7475400" cy="268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c757"/>
                    </a:gs>
                    <a:gs pos="50000">
                      <a:srgbClr val="755b28"/>
                    </a:gs>
                    <a:gs pos="100000">
                      <a:srgbClr val="ffc757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OrientNarrow"/>
              </a:rPr>
              <a:t>Confucianism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c757"/>
                  </a:gs>
                  <a:gs pos="50000">
                    <a:srgbClr val="755b28"/>
                  </a:gs>
                  <a:gs pos="100000">
                    <a:srgbClr val="ffc757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OrientNarrow"/>
              <a:ea typeface="Orient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63880" y="671400"/>
            <a:ext cx="3527640" cy="75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c757"/>
                  </a:solidFill>
                  <a:miter/>
                </a:ln>
                <a:solidFill>
                  <a:srgbClr val="e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rientNarrow"/>
              </a:rPr>
              <a:t>Confucius</a:t>
            </a:r>
            <a:endParaRPr b="0" lang="en-US" sz="1800" spc="1" strike="noStrike">
              <a:ln w="19080">
                <a:solidFill>
                  <a:srgbClr val="ffc757"/>
                </a:solidFill>
                <a:miter/>
              </a:ln>
              <a:solidFill>
                <a:srgbClr val="e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rientNarrow"/>
              <a:ea typeface="OrientNarrow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00240" y="1886040"/>
            <a:ext cx="3608280" cy="4746600"/>
          </a:xfrm>
          <a:prstGeom prst="rect">
            <a:avLst/>
          </a:prstGeom>
          <a:ln w="9360">
            <a:solidFill>
              <a:srgbClr val="ffc757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880240" y="2266920"/>
            <a:ext cx="3863880" cy="30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551 – 479 B.C.E.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Born in the feudal 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  state of Liu.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Became a teacher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Comic Sans MS"/>
              </a:rPr>
              <a:t>  and editor of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47880" y="1847880"/>
            <a:ext cx="814716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i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cc66"/>
                </a:solidFill>
                <a:latin typeface="Comic Sans MS"/>
              </a:rPr>
              <a:t>--&gt; Rite, rules, ritual decorum (Binding   </a:t>
            </a:r>
            <a:br>
              <a:rPr sz="2600"/>
            </a:br>
            <a:r>
              <a:rPr b="1" lang="en-US" sz="2600" spc="-1" strike="noStrike">
                <a:solidFill>
                  <a:srgbClr val="ffcc66"/>
                </a:solidFill>
                <a:latin typeface="Comic Sans MS"/>
              </a:rPr>
              <a:t>       force of an enduring stable socie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Ren</a:t>
            </a:r>
            <a:r>
              <a:rPr b="1" lang="en-US" sz="2600" spc="-1" strike="noStrike">
                <a:solidFill>
                  <a:srgbClr val="ffcc66"/>
                </a:solidFill>
                <a:latin typeface="Comic Sans MS"/>
              </a:rPr>
              <a:t> --&gt; humaneness, benevolence, </a:t>
            </a:r>
            <a:br>
              <a:rPr sz="2600"/>
            </a:br>
            <a:r>
              <a:rPr b="1" lang="en-US" sz="2600" spc="-1" strike="noStrike">
                <a:solidFill>
                  <a:srgbClr val="ffcc66"/>
                </a:solidFill>
                <a:latin typeface="Comic Sans MS"/>
              </a:rPr>
              <a:t>         huma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Shu</a:t>
            </a:r>
            <a:r>
              <a:rPr b="1" lang="en-US" sz="2600" spc="-1" strike="noStrike">
                <a:solidFill>
                  <a:srgbClr val="ffcc66"/>
                </a:solidFill>
                <a:latin typeface="Comic Sans MS"/>
              </a:rPr>
              <a:t> --&gt; Reciprocity, empat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Comic Sans MS"/>
              </a:rPr>
              <a:t>   </a:t>
            </a:r>
            <a:r>
              <a:rPr b="1" i="1" lang="en-US" sz="2600" spc="-1" strike="noStrike">
                <a:solidFill>
                  <a:srgbClr val="ffcc66"/>
                </a:solidFill>
                <a:latin typeface="Comic Sans MS"/>
              </a:rPr>
              <a:t>Do not do unto others what you would </a:t>
            </a:r>
            <a:br>
              <a:rPr sz="2600"/>
            </a:br>
            <a:r>
              <a:rPr b="1" i="1" lang="en-US" sz="2600" spc="-1" strike="noStrike">
                <a:solidFill>
                  <a:srgbClr val="ffcc66"/>
                </a:solidFill>
                <a:latin typeface="Comic Sans MS"/>
              </a:rPr>
              <a:t>not want others to do unto y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Yi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cc66"/>
                </a:solidFill>
                <a:latin typeface="Comic Sans MS"/>
              </a:rPr>
              <a:t>--&gt; Righteous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Xiao </a:t>
            </a:r>
            <a:r>
              <a:rPr b="1" lang="en-US" sz="2600" spc="-1" strike="noStrike">
                <a:solidFill>
                  <a:srgbClr val="ffc757"/>
                </a:solidFill>
                <a:latin typeface="Comic Sans MS"/>
              </a:rPr>
              <a:t>--&gt; Filial Piety (Respect your elders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71640" y="503280"/>
            <a:ext cx="6215040" cy="1176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c757"/>
                  </a:solidFill>
                  <a:miter/>
                </a:ln>
                <a:solidFill>
                  <a:srgbClr val="e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rientNarrow"/>
              </a:rPr>
              <a:t>Major Confucian Principles</a:t>
            </a:r>
            <a:endParaRPr b="0" lang="en-US" sz="1800" spc="1" strike="noStrike">
              <a:ln w="19080">
                <a:solidFill>
                  <a:srgbClr val="ffc757"/>
                </a:solidFill>
                <a:miter/>
              </a:ln>
              <a:solidFill>
                <a:srgbClr val="e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rientNarrow"/>
              <a:ea typeface="OrientNarrow"/>
            </a:endParaRPr>
          </a:p>
        </p:txBody>
      </p:sp>
      <p:sp>
        <p:nvSpPr>
          <p:cNvPr id="55" name=""/>
          <p:cNvSpPr/>
          <p:nvPr/>
        </p:nvSpPr>
        <p:spPr>
          <a:xfrm>
            <a:off x="3863880" y="6972480"/>
            <a:ext cx="17636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35400" y="1595520"/>
            <a:ext cx="26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Ruler</a:t>
            </a:r>
            <a:r>
              <a:rPr b="1" lang="en-US" sz="3200" spc="-1" strike="noStrike">
                <a:solidFill>
                  <a:srgbClr val="ffc757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c757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24600" y="1932120"/>
            <a:ext cx="176364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88240" y="1596960"/>
            <a:ext cx="26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5400" y="2687760"/>
            <a:ext cx="26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 Father</a:t>
            </a:r>
            <a:r>
              <a:rPr b="1" lang="en-US" sz="3200" spc="-1" strike="noStrike">
                <a:solidFill>
                  <a:srgbClr val="ffc757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c757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24600" y="3024360"/>
            <a:ext cx="176364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88240" y="2687760"/>
            <a:ext cx="26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5400" y="3780000"/>
            <a:ext cx="2603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 Husband</a:t>
            </a:r>
            <a:r>
              <a:rPr b="1" lang="en-US" sz="3200" spc="-1" strike="noStrike">
                <a:solidFill>
                  <a:srgbClr val="ffc757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c757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24600" y="4116240"/>
            <a:ext cx="176364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88240" y="3780000"/>
            <a:ext cx="26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W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5400" y="4956120"/>
            <a:ext cx="2855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 Older</a:t>
            </a:r>
            <a:br>
              <a:rPr sz="2800"/>
            </a:b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  Brother</a:t>
            </a:r>
            <a:r>
              <a:rPr b="1" lang="en-US" sz="3200" spc="-1" strike="noStrike">
                <a:solidFill>
                  <a:srgbClr val="ffc757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c757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24600" y="5291280"/>
            <a:ext cx="176364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88240" y="4956120"/>
            <a:ext cx="285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Younger</a:t>
            </a:r>
            <a:br>
              <a:rPr sz="2800"/>
            </a:b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5400" y="6108840"/>
            <a:ext cx="2603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 Older</a:t>
            </a:r>
            <a:br>
              <a:rPr sz="2800"/>
            </a:b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  Friend</a:t>
            </a:r>
            <a:r>
              <a:rPr b="1" lang="en-US" sz="3200" spc="-1" strike="noStrike">
                <a:solidFill>
                  <a:srgbClr val="ffc757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c757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24600" y="6618240"/>
            <a:ext cx="176364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88240" y="6281640"/>
            <a:ext cx="260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Younger</a:t>
            </a:r>
            <a:br>
              <a:rPr sz="2800"/>
            </a:b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71640" y="503280"/>
            <a:ext cx="6132600" cy="923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c757"/>
                  </a:solidFill>
                  <a:miter/>
                </a:ln>
                <a:solidFill>
                  <a:srgbClr val="e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rientNarrow"/>
              </a:rPr>
              <a:t>5 Principle Relationships</a:t>
            </a:r>
            <a:endParaRPr b="0" lang="en-US" sz="1800" spc="1" strike="noStrike">
              <a:ln w="19080">
                <a:solidFill>
                  <a:srgbClr val="ffc757"/>
                </a:solidFill>
                <a:miter/>
              </a:ln>
              <a:solidFill>
                <a:srgbClr val="e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rientNarrow"/>
              <a:ea typeface="OrientNarrow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771640" y="671400"/>
            <a:ext cx="6132600" cy="1176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c757"/>
                  </a:solidFill>
                  <a:miter/>
                </a:ln>
                <a:solidFill>
                  <a:srgbClr val="e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rientNarrow"/>
              </a:rPr>
              <a:t>Organizing Principles</a:t>
            </a:r>
            <a:endParaRPr b="0" lang="en-US" sz="1800" spc="1" strike="noStrike">
              <a:ln w="19080">
                <a:solidFill>
                  <a:srgbClr val="ffc757"/>
                </a:solidFill>
                <a:miter/>
              </a:ln>
              <a:solidFill>
                <a:srgbClr val="e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rientNarrow"/>
              <a:ea typeface="OrientNarrow"/>
            </a:endParaRPr>
          </a:p>
        </p:txBody>
      </p:sp>
      <p:sp>
        <p:nvSpPr>
          <p:cNvPr id="73" name=""/>
          <p:cNvSpPr/>
          <p:nvPr/>
        </p:nvSpPr>
        <p:spPr>
          <a:xfrm>
            <a:off x="4200480" y="2335320"/>
            <a:ext cx="3863880" cy="377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Status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Age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G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687760" y="671400"/>
            <a:ext cx="6300720" cy="83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c757"/>
                  </a:solidFill>
                  <a:miter/>
                </a:ln>
                <a:solidFill>
                  <a:srgbClr val="e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rientNarrow"/>
              </a:rPr>
              <a:t>Confucian Temple Complex</a:t>
            </a:r>
            <a:endParaRPr b="0" lang="en-US" sz="1800" spc="1" strike="noStrike">
              <a:ln w="19080">
                <a:solidFill>
                  <a:srgbClr val="ffc757"/>
                </a:solidFill>
                <a:miter/>
              </a:ln>
              <a:solidFill>
                <a:srgbClr val="e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rientNarrow"/>
              <a:ea typeface="OrientNarrow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16000" y="1847880"/>
            <a:ext cx="7728120" cy="5388120"/>
          </a:xfrm>
          <a:prstGeom prst="rect">
            <a:avLst/>
          </a:prstGeom>
          <a:ln w="12600">
            <a:solidFill>
              <a:srgbClr val="ffc757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948120" y="671400"/>
            <a:ext cx="3863880" cy="75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c757"/>
                  </a:solidFill>
                  <a:miter/>
                </a:ln>
                <a:solidFill>
                  <a:srgbClr val="e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rientNarrow"/>
              </a:rPr>
              <a:t>The Analects</a:t>
            </a:r>
            <a:endParaRPr b="0" lang="en-US" sz="1800" spc="1" strike="noStrike">
              <a:ln w="19080">
                <a:solidFill>
                  <a:srgbClr val="ffc757"/>
                </a:solidFill>
                <a:miter/>
              </a:ln>
              <a:solidFill>
                <a:srgbClr val="e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rientNarrow"/>
              <a:ea typeface="OrientNarrow"/>
            </a:endParaRPr>
          </a:p>
        </p:txBody>
      </p:sp>
      <p:sp>
        <p:nvSpPr>
          <p:cNvPr id="77" name=""/>
          <p:cNvSpPr/>
          <p:nvPr/>
        </p:nvSpPr>
        <p:spPr>
          <a:xfrm>
            <a:off x="1679400" y="1847880"/>
            <a:ext cx="8232840" cy="437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The single most important Confucian 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 work.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In Chinese, it means “conversation.”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Focus on practicalities of interpersonal </a:t>
            </a:r>
            <a:br>
              <a:rPr sz="2800"/>
            </a:b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  relationships and the relationship of</a:t>
            </a:r>
            <a:br>
              <a:rPr sz="2800"/>
            </a:b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  the role of rulers and ministers to the</a:t>
            </a:r>
            <a:br>
              <a:rPr sz="2800"/>
            </a:br>
            <a:r>
              <a:rPr b="1" lang="en-US" sz="2800" spc="-1" strike="noStrike">
                <a:solidFill>
                  <a:srgbClr val="ffc757"/>
                </a:solidFill>
                <a:latin typeface="Comic Sans MS"/>
              </a:rPr>
              <a:t>  conduct of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184480" y="587520"/>
            <a:ext cx="7140600" cy="923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c757"/>
                  </a:solidFill>
                  <a:miter/>
                </a:ln>
                <a:solidFill>
                  <a:srgbClr val="e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rientNarrow"/>
              </a:rPr>
              <a:t>Sayings from The Analects</a:t>
            </a:r>
            <a:endParaRPr b="0" lang="en-US" sz="1800" spc="1" strike="noStrike">
              <a:ln w="19080">
                <a:solidFill>
                  <a:srgbClr val="ffc757"/>
                </a:solidFill>
                <a:miter/>
              </a:ln>
              <a:solidFill>
                <a:srgbClr val="e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rientNarrow"/>
              <a:ea typeface="OrientNarrow"/>
            </a:endParaRPr>
          </a:p>
        </p:txBody>
      </p:sp>
      <p:sp>
        <p:nvSpPr>
          <p:cNvPr id="79" name=""/>
          <p:cNvSpPr/>
          <p:nvPr/>
        </p:nvSpPr>
        <p:spPr>
          <a:xfrm>
            <a:off x="1679400" y="1940040"/>
            <a:ext cx="8064720" cy="505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ffc757"/>
                </a:solidFill>
                <a:latin typeface="Comic Sans MS"/>
              </a:rPr>
              <a:t>Knowing what he knows and knowing what he </a:t>
            </a:r>
            <a:br>
              <a:rPr sz="2400"/>
            </a:br>
            <a:r>
              <a:rPr b="1" i="1" lang="en-US" sz="2400" spc="-1" strike="noStrike">
                <a:solidFill>
                  <a:srgbClr val="ffc757"/>
                </a:solidFill>
                <a:latin typeface="Comic Sans MS"/>
              </a:rPr>
              <a:t>  doesn’t know, is characteristics of the person</a:t>
            </a:r>
            <a:br>
              <a:rPr sz="2400"/>
            </a:br>
            <a:r>
              <a:rPr b="1" i="1" lang="en-US" sz="2400" spc="-1" strike="noStrike">
                <a:solidFill>
                  <a:srgbClr val="ffc757"/>
                </a:solidFill>
                <a:latin typeface="Comic Sans MS"/>
              </a:rPr>
              <a:t>  who knows.</a:t>
            </a:r>
            <a:br>
              <a:rPr sz="2400"/>
            </a:br>
            <a:r>
              <a:rPr b="1" i="1" lang="en-US" sz="2400" spc="-1" strike="noStrike">
                <a:solidFill>
                  <a:srgbClr val="ffc757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c757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ffc757"/>
                </a:solidFill>
                <a:latin typeface="Comic Sans MS"/>
              </a:rPr>
              <a:t>Making a mistake and not correcting it, is </a:t>
            </a:r>
            <a:br>
              <a:rPr sz="2400"/>
            </a:br>
            <a:r>
              <a:rPr b="1" i="1" lang="en-US" sz="2400" spc="-1" strike="noStrike">
                <a:solidFill>
                  <a:srgbClr val="ffc757"/>
                </a:solidFill>
                <a:latin typeface="Comic Sans MS"/>
              </a:rPr>
              <a:t>  making another mistake.</a:t>
            </a:r>
            <a:br>
              <a:rPr sz="2400"/>
            </a:br>
            <a:r>
              <a:rPr b="1" i="1" lang="en-US" sz="2400" spc="-1" strike="noStrike">
                <a:solidFill>
                  <a:srgbClr val="ffc757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c757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ffc757"/>
                </a:solidFill>
                <a:latin typeface="Comic Sans MS"/>
              </a:rPr>
              <a:t>The superior man blames himself; the </a:t>
            </a:r>
            <a:br>
              <a:rPr sz="2400"/>
            </a:br>
            <a:r>
              <a:rPr b="1" i="1" lang="en-US" sz="2400" spc="-1" strike="noStrike">
                <a:solidFill>
                  <a:srgbClr val="ffc757"/>
                </a:solidFill>
                <a:latin typeface="Comic Sans MS"/>
              </a:rPr>
              <a:t>  inferior man blames others.</a:t>
            </a:r>
            <a:br>
              <a:rPr sz="2400"/>
            </a:br>
            <a:r>
              <a:rPr b="1" i="1" lang="en-US" sz="2400" spc="-1" strike="noStrike">
                <a:solidFill>
                  <a:srgbClr val="ffc757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*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c757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ffc757"/>
                </a:solidFill>
                <a:latin typeface="Comic Sans MS"/>
              </a:rPr>
              <a:t>To go too far is as wrong as to fall short.</a:t>
            </a:r>
            <a:br>
              <a:rPr sz="2400"/>
            </a:br>
            <a:r>
              <a:rPr b="1" i="1" lang="en-US" sz="2400" spc="-1" strike="noStrike">
                <a:solidFill>
                  <a:srgbClr val="ffc757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03:46:09Z</dcterms:created>
  <dc:creator>Hugh Plouffe</dc:creator>
  <dc:description/>
  <dc:language>en-US</dc:language>
  <cp:lastModifiedBy/>
  <cp:revision>1</cp:revision>
  <dc:subject/>
  <dc:title/>
</cp:coreProperties>
</file>